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9D2-CC53-4B76-BDA0-FEEA2973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CBB-1670-471C-8ACD-43773891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A65-F769-4F18-AC2E-AFCCF034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8DE-9A3F-4245-9754-2419D114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FA6-B0BF-4A4C-919E-85ACF95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EAC-E062-44FB-8AD5-82A0130E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84C3-A9FD-4975-A454-61A471A2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6F2D-4D8D-4E59-AB95-9E534AC2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1B0E-483F-4749-8D32-E1730E4E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92C-7D44-47B0-9559-2D885771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C82F-8C15-4954-8BFA-28C4D846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2F2E-B9F0-4B8B-B6DD-369999BE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27BF-7F63-4D7E-ABC5-24FCA155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FD64-25D6-4AA3-B661-F1E083A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C015-3443-41F6-8327-9FE87D40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9C48-D186-496B-B618-90A18CD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A9B0-D2AB-4191-B84F-D5340F9A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C2BF-5CD2-414D-B9BF-7FBF9D80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62CB-A91B-4ADE-BC93-73D7D7FF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A40C-6F60-417D-AD97-E08A8228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933-3ECE-4A60-9E0A-3204BFBC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45F0-3C8F-4E9A-805B-FA53A54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92EA-C9B6-4E09-8E0C-2CEC1B46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C0FC-5C42-43A2-8DBD-44946C1A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1DB7-F66D-4BD5-877A-03F8D0CF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2383-B3F5-4B23-A346-F5C4616B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BBCF-4D1B-4E46-AF7A-C5AD9D83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2266-D8B3-417C-BA64-1A22374F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2E62-CFC7-450A-9CA2-4E7E1EB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0796-989E-4D49-9413-98C08ABD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CC26-1CCD-4AD5-8E7B-8C93182B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6C8-D0FB-4D32-B6D7-044F06F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43D5-16BA-44F6-9DCE-AFD2C988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0497-E292-4DB9-8FF6-A309DD23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7253E-FC96-482C-8298-89049BE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7BFB-ADBC-4600-8DEA-22DDCE9A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A5D0-5481-4578-A55C-3D6A65CE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E831-A8CE-4B69-A86F-E0BB42FF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E7347-D4A0-431D-A3C2-5EEA458D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887E-B879-4E7E-9A64-F6FDDF06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0E73-66D3-45E2-B32E-3382B586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B446-4F5A-4EE5-A4F3-FECF9CF9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2F8-57D7-4A2E-8A76-14BD175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1657-9FF9-45A5-BA51-C1353F73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FB50-8FF0-405F-A3FA-5F543541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2CC2-0C90-4B64-8A84-C56009B8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791-34B3-4322-82BB-3818862C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C36-FB7C-4796-90E8-32C89B0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A8E1685-D5B7-4BC8-90CA-E160B389CE9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664D9A3-6DC7-4E34-A056-A7B45200122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FD2A5E5-6D6D-4C47-B363-98900D467E9F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7B08039-1619-4E29-9F4C-EF9F399D511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pisz sposób oceny oddechu poszkodowanego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 pomocą trzech zmysłów: wzroku (sprawdzamy,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czy unosi się klatka piersiowa), słuchu (sprawdzamy,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czy słyszymy szmery oddechowe) i dotyku (sprawdzamy, czy czujemy na policzku wydmuchiwane przez poszkodowanego powietrze)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